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37B6-7CC7-4F3F-9CDB-603BF88AE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E431-77C0-4D3E-A302-E44BFBB6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887C-FFAE-46A9-8A6C-2F5BED0D6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33FD-9002-49AF-BE4F-BE194A8D0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DDBF-B85B-44CB-8AE9-59C89D68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45D7-96F1-4075-A0CD-41CD34B5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68AA-F1B5-474D-8638-30416085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38EC-C082-448A-880E-3680A4A3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5D1A-8782-46AA-AFDF-2DD316BA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B0F0-10EF-4C4B-88A3-8267EC03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3AAA-4158-4992-9361-E2D924DA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CF01-8A98-4842-9761-590BFA81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616B-7CCD-4E50-813D-51F5F8A0F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1" descr=""/>
          <p:cNvPicPr/>
          <p:nvPr/>
        </p:nvPicPr>
        <p:blipFill>
          <a:blip r:embed="rId2"/>
          <a:stretch/>
        </p:blipFill>
        <p:spPr>
          <a:xfrm>
            <a:off x="603360" y="712800"/>
            <a:ext cx="6645240" cy="1974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C:\Documents and Settings\sramsey\Local Settings\Temporary Internet Files\Content.IE5\726PDIT4\MC900441846[1].wmf"/>
          <p:cNvPicPr/>
          <p:nvPr/>
        </p:nvPicPr>
        <p:blipFill>
          <a:blip r:embed="rId3"/>
          <a:stretch/>
        </p:blipFill>
        <p:spPr>
          <a:xfrm>
            <a:off x="4419720" y="4952880"/>
            <a:ext cx="106668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7.40741E-007 C 0.06597 -0.0081 0.11493 -0.02801 0.11493 -0.04398 C 0.11493 -0.05856 0.06701 -0.06944 0.00295 -0.06944 C -0.06094 -0.06944 -0.11494 -0.05856 -0.11494 -0.04398 C -0.11494 -0.02801 -0.05903 -0.02407 0.00503 -0.03472 C 0.06805 -0.04676 0.11493 -0.06667 0.11493 -0.08125 C 0.11493 -0.09606 0.06597 -0.1081 0.00295 -0.1081 C -0.06094 -0.1081 -0.11494 -0.09606 -0.11494 -0.08125 C -0.11494 -0.06667 -0.05903 -0.06273 0.00399 -0.07338 C 0.06805 -0.08403 0.11493 -0.10393 0.11493 -0.11875 C 0.11493 -0.13472 0.06597 -0.14676 0.00208 -0.14676 C -0.06094 -0.14676 -0.11494 -0.13472 -0.11494 -0.11875 C -0.11494 -0.10532 -0.05903 -0.10139 0.00399 -0.11065 C 0.06701 -0.1213 0.11493 -0.14259 0.11493 -0.15741 C 0.11493 -0.17199 0.06493 -0.18403 0.00208 -0.18403 C -0.06303 -0.18403 -0.11494 -0.17199 -0.11494 -0.15741 C -0.11494 -0.14259 -0.06007 -0.13866 0.00295 -0.1493 C 0.06597 -0.15995 0.11493 -0.18009 0.11493 -0.19468 C 0.11493 -0.21065 0.06493 -0.2213 0.00104 -0.2213 C -0.06303 -0.2213 -0.11494 -0.20926 -0.11494 -0.19468 C -0.11494 -0.18009 -0.06007 -0.17593 0.00295 -0.18657 C 0.06597 -0.19722 0.11493 -0.21875 0.11493 -0.23194 C 0.11493 -0.24676 0.06406 -0.25856 0.00104 -0.25856 C -0.06303 -0.25856 -0.11494 -0.24676 -0.11494 -0.23194 C -0.11494 -0.21875 -0.06094 -0.21458 0.00295 -0.22407 C 0.06597 -0.23472 0.11493 -0.25602 0.11493 -0.2706 C 0.11493 -0.28403 0.06406 -0.29722 4.72222E-006 -0.29722 C -0.06407 -0.29722 -0.11494 -0.28542 -0.11494 -0.2706 C -0.11494 -0.25602 -0.06094 -0.25208 0.00208 -0.26273 C 0.06493 -0.27338 0.11597 -0.29329 0.11493 -0.3081 C 0.11406 -0.32268 0.06406 -0.33333 4.72222E-006 -0.33333 C -0.06407 -0.33333 -0.11494 -0.3213 -0.11494 -0.30671 C -0.11494 -0.29329 -0.06303 -0.28935 4.72222E-006 -0.30139 E">
                                      <p:cBhvr>
                                        <p:cTn id="6" dur="5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7037E-006 C 0.02344 -0.03125 0.01215 -0.025 0.0283 -0.03194 C 0.03959 -0.04351 0.04844 -0.05347 0.06094 -0.06389 C 0.07622 -0.09074 0.09653 -0.10555 0.11528 -0.12777 C 0.15278 -0.17222 0.19097 -0.22222 0.21754 -0.27824 C 0.23715 -0.32083 0.2467 -0.35069 0.26094 -0.4 C 0.26389 -0.41111 0.26754 -0.43264 0.26754 -0.4324 C 0.26615 -0.43588 0.26563 -0.44074 0.2632 -0.44351 C 0.26077 -0.44606 0.2559 -0.44305 0.25434 -0.44652 C 0.2375 -0.48402 0.23143 -0.5125 0.22188 -0.55092 C 0.21893 -0.58171 0.21042 -0.60671 0.20226 -0.63541 C 0.18733 -0.68726 0.17465 -0.72592 0.14358 -0.76527 C 0.14323 -0.76574 0.11858 -0.79074 0.1132 -0.79143 C 0.08577 -0.7949 0.05816 -0.79537 0.03056 -0.79722 C -0.00069 -0.79629 -0.03177 -0.79583 -0.06302 -0.79421 C -0.0868 -0.79282 -0.0618 -0.79166 -0.08246 -0.78564 C -0.08958 -0.78356 -0.09705 -0.78356 -0.10434 -0.78264 C -0.13073 -0.77129 -0.15503 -0.75115 -0.18246 -0.7449 C -0.20764 -0.73148 -0.2283 -0.72963 -0.25642 -0.72754 C -0.27153 -0.72106 -0.28628 -0.71828 -0.30208 -0.71597 C -0.3158 -0.71782 -0.32986 -0.71759 -0.3434 -0.72176 C -0.34635 -0.72268 -0.34722 -0.72847 -0.35 -0.73055 C -0.3526 -0.7324 -0.35573 -0.7324 -0.35868 -0.73333 C -0.36337 -0.74282 -0.3691 -0.74722 -0.37378 -0.75671 C -0.37309 -0.7625 -0.37413 -0.76921 -0.3717 -0.77407 C -0.36666 -0.78379 -0.35625 -0.78588 -0.35 -0.79421 C -0.33298 -0.81689 -0.29965 -0.84328 -0.27604 -0.85231 C -0.26736 -0.85902 -0.2585 -0.86296 -0.25 -0.86967 C -0.22882 -0.88657 -0.24548 -0.87801 -0.2217 -0.88703 C -0.2217 -0.8868 -0.21875 -0.87546 -0.21736 -0.86967 C -0.21666 -0.86689 -0.21736 -0.87546 -0.21736 -0.87824 E">
                                      <p:cBhvr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7ffd1"/>
                </a:solidFill>
                <a:latin typeface="Times New Roman"/>
              </a:rPr>
              <a:t>a very dry area where few plants grow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05704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te image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6400800" y="3733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ffd1"/>
                </a:solidFill>
                <a:latin typeface="Times New Roman"/>
              </a:rPr>
              <a:t>Des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desert.jpg"/>
          <p:cNvPicPr/>
          <p:nvPr/>
        </p:nvPicPr>
        <p:blipFill>
          <a:blip r:embed="rId2"/>
          <a:stretch/>
        </p:blipFill>
        <p:spPr>
          <a:xfrm>
            <a:off x="1752480" y="1752480"/>
            <a:ext cx="30006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place in the desert made fertile by a steady supply of wat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05704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te image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5" descr="oasis.jpg"/>
          <p:cNvPicPr/>
          <p:nvPr/>
        </p:nvPicPr>
        <p:blipFill>
          <a:blip r:embed="rId1"/>
          <a:stretch/>
        </p:blipFill>
        <p:spPr>
          <a:xfrm>
            <a:off x="2133720" y="175248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al Thinking Slide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76212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is a strait similar to an isthmus?  Explain h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2" descr="http://www.worldatlas.com/aatlas/infopage/hormuz.gif"/>
          <p:cNvPicPr/>
          <p:nvPr/>
        </p:nvPicPr>
        <p:blipFill>
          <a:blip r:embed="rId2"/>
          <a:stretch/>
        </p:blipFill>
        <p:spPr>
          <a:xfrm>
            <a:off x="304920" y="3427560"/>
            <a:ext cx="3200400" cy="3193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http://www.nasa.gov/images/content/150519main_image_feature_595_ys_4.jpg"/>
          <p:cNvPicPr/>
          <p:nvPr/>
        </p:nvPicPr>
        <p:blipFill>
          <a:blip r:embed="rId3"/>
          <a:stretch/>
        </p:blipFill>
        <p:spPr>
          <a:xfrm>
            <a:off x="4952880" y="3429000"/>
            <a:ext cx="3962520" cy="2971800"/>
          </a:xfrm>
          <a:prstGeom prst="rect">
            <a:avLst/>
          </a:prstGeom>
          <a:ln w="0">
            <a:noFill/>
          </a:ln>
        </p:spPr>
      </p:pic>
      <p:cxnSp>
        <p:nvCxnSpPr>
          <p:cNvPr id="85" name="Straight Arrow Connector 7"/>
          <p:cNvCxnSpPr/>
          <p:nvPr/>
        </p:nvCxnSpPr>
        <p:spPr>
          <a:xfrm flipH="1">
            <a:off x="2208960" y="4190040"/>
            <a:ext cx="1677240" cy="533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6" name="Straight Arrow Connector 8"/>
          <p:cNvCxnSpPr/>
          <p:nvPr/>
        </p:nvCxnSpPr>
        <p:spPr>
          <a:xfrm>
            <a:off x="4038120" y="4191120"/>
            <a:ext cx="2057760" cy="381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7" name="Right Arrow 11"/>
          <p:cNvSpPr/>
          <p:nvPr/>
        </p:nvSpPr>
        <p:spPr>
          <a:xfrm>
            <a:off x="4419720" y="5105520"/>
            <a:ext cx="1066680" cy="15228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1828800" y="60958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trait is wat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al Thinking Slide #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60" y="10666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glacier is a chunk  of  ice   true or false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1905120" y="633420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glacer.jpg"/>
          <p:cNvPicPr/>
          <p:nvPr/>
        </p:nvPicPr>
        <p:blipFill>
          <a:blip r:embed="rId2"/>
          <a:stretch/>
        </p:blipFill>
        <p:spPr>
          <a:xfrm>
            <a:off x="2438280" y="2590920"/>
            <a:ext cx="35719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al Thinking Slide #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10666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Pease of land is sticking out with water on 3 sides what is it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838080" y="259092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insula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at.jpg"/>
          <p:cNvPicPr/>
          <p:nvPr/>
        </p:nvPicPr>
        <p:blipFill>
          <a:blip r:embed="rId1"/>
          <a:stretch/>
        </p:blipFill>
        <p:spPr>
          <a:xfrm>
            <a:off x="5791320" y="2438280"/>
            <a:ext cx="209556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477120" y="5181120"/>
            <a:ext cx="2286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la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 large area of flat or nearly flat lan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great planes.jpg"/>
          <p:cNvPicPr/>
          <p:nvPr/>
        </p:nvPicPr>
        <p:blipFill>
          <a:blip r:embed="rId2"/>
          <a:stretch/>
        </p:blipFill>
        <p:spPr>
          <a:xfrm>
            <a:off x="1143000" y="3352680"/>
            <a:ext cx="302904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2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21" dur="3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int of land that extends into a river, lake, or ocea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05704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te image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6553080" y="28954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cape of good hope.JPG"/>
          <p:cNvPicPr/>
          <p:nvPr/>
        </p:nvPicPr>
        <p:blipFill>
          <a:blip r:embed="rId2"/>
          <a:stretch/>
        </p:blipFill>
        <p:spPr>
          <a:xfrm>
            <a:off x="2057400" y="205740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333 -0.00023 L -0.31666 0.35532 E">
                                      <p:cBhvr>
                                        <p:cTn id="38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</a:rPr>
              <a:t>the place where a river begi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05704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te image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65530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ffd1"/>
                </a:solidFill>
                <a:latin typeface="Times New Roman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river s.jpg"/>
          <p:cNvPicPr/>
          <p:nvPr/>
        </p:nvPicPr>
        <p:blipFill>
          <a:blip r:embed="rId2"/>
          <a:stretch/>
        </p:blipFill>
        <p:spPr>
          <a:xfrm>
            <a:off x="2133720" y="1676520"/>
            <a:ext cx="304776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Mountain created as liquid rock and ash erupt from the inside the earth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6705720" y="3505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olca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Content Placeholder 8" descr="valcano.jpg"/>
          <p:cNvPicPr/>
          <p:nvPr/>
        </p:nvPicPr>
        <p:blipFill>
          <a:blip r:embed="rId2"/>
          <a:stretch/>
        </p:blipFill>
        <p:spPr>
          <a:xfrm>
            <a:off x="1371600" y="2743200"/>
            <a:ext cx="26668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high, flat landform that rises steeply above the surrounding land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65530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late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Content Placeholder 7" descr="cape of good hope.JPG"/>
          <p:cNvPicPr/>
          <p:nvPr/>
        </p:nvPicPr>
        <p:blipFill>
          <a:blip r:embed="rId2"/>
          <a:stretch/>
        </p:blipFill>
        <p:spPr>
          <a:xfrm>
            <a:off x="0" y="457200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8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0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at, low-lying land built up from soil carried downstream by a river and deposited at its mouth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662940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ttp://t2.gstatic.com/images?q=tbn:ANd9GcQwduJBLsvv3yCDC99xd8oKTkOg6Eq_aMuifMGbMU22OcXDRX4Ugk7jjSRwBg"/>
          <p:cNvPicPr/>
          <p:nvPr/>
        </p:nvPicPr>
        <p:blipFill>
          <a:blip r:embed="rId3"/>
          <a:stretch/>
        </p:blipFill>
        <p:spPr>
          <a:xfrm>
            <a:off x="990720" y="2362320"/>
            <a:ext cx="35337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series of connected mountain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Placeholder 4" descr="smoky montan range.jpg"/>
          <p:cNvPicPr/>
          <p:nvPr/>
        </p:nvPicPr>
        <p:blipFill>
          <a:blip r:embed="rId1"/>
          <a:srcRect l="5584" t="0" r="5584" b="0"/>
          <a:stretch/>
        </p:blipFill>
        <p:spPr>
          <a:xfrm>
            <a:off x="0" y="91440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8120" y="541008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untain ra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7ffd1"/>
                </a:solidFill>
                <a:latin typeface="Times New Roman"/>
              </a:rPr>
              <a:t>--</a:t>
            </a:r>
            <a:r>
              <a:rPr b="0" lang="en-US" sz="4400" spc="-1" strike="noStrike">
                <a:solidFill>
                  <a:srgbClr val="47ffd1"/>
                </a:solidFill>
                <a:latin typeface="Times New Roman"/>
              </a:rPr>
              <a:t> A huge sheet of ice that moves slowly across the lan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37720" y="22096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te image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6705720" y="3505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ffd1"/>
                </a:solidFill>
                <a:latin typeface="Times New Roman"/>
              </a:rPr>
              <a:t>Glac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glacer.jpg"/>
          <p:cNvPicPr/>
          <p:nvPr/>
        </p:nvPicPr>
        <p:blipFill>
          <a:blip r:embed="rId2"/>
          <a:stretch/>
        </p:blipFill>
        <p:spPr>
          <a:xfrm>
            <a:off x="533520" y="1905120"/>
            <a:ext cx="35719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2:50:16Z</dcterms:created>
  <dc:creator>Barbers Hill ISD</dc:creator>
  <dc:description/>
  <dc:language>en-US</dc:language>
  <cp:lastModifiedBy>BHISD</cp:lastModifiedBy>
  <dcterms:modified xsi:type="dcterms:W3CDTF">2011-10-03T20:31:00Z</dcterms:modified>
  <cp:revision>49</cp:revision>
  <dc:subject/>
  <dc:title>PowerPoint Presentation</dc:title>
</cp:coreProperties>
</file>